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020-86EF-4283-BACB-6946809D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4D8-54AD-4CD5-9106-6756496E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541-CEFB-41C4-9B6B-5C1DCE4A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9D0-DEA4-46A0-9178-F7FEB6A8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591-4C8E-474F-B362-530622CA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0F5-09E9-4739-81F7-D493DE44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DB9-3BCE-4224-909B-2AC26C48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05C-5425-4780-A673-BE59294B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EFB-B702-4724-9759-78B7BAA0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F82-8C67-4184-902C-6502953A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DFF-B9DB-452C-8670-6E136959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DD9-CD6A-49EA-B00B-3C871B9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45F8-B5C3-47BA-B07D-1DC3B9D17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Economic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creation of a good or service that has value to another indivi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method of getting the goods to the individuals who will us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actual use of the goods that are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products that are desired by individu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processes that are desired by individu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individual who will use the goods or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individual who will create the goods or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the independent unit of custo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- the scientific study of the means of producing and distributing goods and services so that they may be consumed by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notebooks, list everything you could ever wan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n your lists is attainable and what is likely to never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rcity of a variety of resources prevents us from getting what we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= goods, land,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r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the imbalance between unlimited wants and limi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people to make choices about using resources to satisfy w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itates choice at the individual and the public polic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3:34:48Z</dcterms:created>
  <dc:creator>Lauren Amorin</dc:creator>
  <dc:description/>
  <dc:language>en-US</dc:language>
  <cp:lastModifiedBy>Lauren Amorin</cp:lastModifiedBy>
  <dcterms:modified xsi:type="dcterms:W3CDTF">2013-04-08T03:45:38Z</dcterms:modified>
  <cp:revision>2</cp:revision>
  <dc:subject/>
  <dc:title>Slide 1</dc:title>
</cp:coreProperties>
</file>